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media/image13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251-FCBA-4A06-A000-94739D30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25B-5D77-4317-BD73-4288024C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884-BF72-4FE6-9D79-62C4A717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F9B9-0571-47B6-BAA8-B58B9636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225-55E2-4FFF-AE53-CF16715A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3EA8-3AFD-4217-B59F-92C609FB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C0FA-BF2D-4144-8455-00D21FCB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98DB-36E1-41BC-93FA-79F2B892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1EB-91ED-4837-ADB4-3AB56D4E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B5E-8AAE-421F-AE77-DA26AA50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119-E7FD-412F-B456-09778E39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D398-FEE1-4247-B16B-C0839883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424DE3DD-899B-4ACE-9B59-175C3988CF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Lesson 19 Let’s Go Shopp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900520" y="2438280"/>
            <a:ext cx="31446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5028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: Let’s go shopping. I want to buy ____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do you want to bu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: I want to buy 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14940" t="18959" r="40429" b="25516"/>
          <a:stretch/>
        </p:blipFill>
        <p:spPr>
          <a:xfrm>
            <a:off x="914400" y="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520" y="306360"/>
            <a:ext cx="822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Shopping is fun.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at do you want to do on Saturda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Do you have any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advice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3276720"/>
            <a:ext cx="5791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Let'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go to the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o 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ave a big d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o our homework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895480" cy="2095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447920" y="1447920"/>
            <a:ext cx="3124080" cy="2095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371600" y="4267080"/>
            <a:ext cx="2895480" cy="1930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1522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hat’s this? What are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100480" y="4414680"/>
            <a:ext cx="28242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520" y="6141600"/>
            <a:ext cx="4800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Let’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go to the 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18000" t="0" r="18000" b="0"/>
          <a:stretch/>
        </p:blipFill>
        <p:spPr>
          <a:xfrm>
            <a:off x="0" y="83808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457200" y="1676520"/>
            <a:ext cx="1447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ook 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2514600" y="1600200"/>
            <a:ext cx="1371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oy 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4572000" y="1219320"/>
            <a:ext cx="1828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lothes 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7238880" y="533520"/>
            <a:ext cx="1143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a 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Let’s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go shopp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17524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want to buy a 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new sweat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52280"/>
            <a:ext cx="6705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Give me some adv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Where should we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514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Let’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go to the___________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05120" y="3352680"/>
            <a:ext cx="4876560" cy="3200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87040" y="2514600"/>
            <a:ext cx="24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clothes 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90360" y="76176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want to buy 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Snow Wh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05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Let’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go to the___________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09680" y="2895480"/>
            <a:ext cx="5334120" cy="3522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33920" y="18288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ook 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579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want to buy a Teddy B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905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Let’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go to the___________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133720" y="2743200"/>
            <a:ext cx="5867280" cy="3884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62520" y="18288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toy 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143000" y="685440"/>
            <a:ext cx="5410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want to buy some t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1600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Let’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go to the___________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0" b="5142"/>
          <a:stretch/>
        </p:blipFill>
        <p:spPr>
          <a:xfrm>
            <a:off x="1752480" y="2514600"/>
            <a:ext cx="5791320" cy="3657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191120" y="1600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tea 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want to read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1752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1752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Let’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go to the______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54226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280" y="457200"/>
          <a:ext cx="8580240" cy="4912920"/>
        </p:xfrm>
        <a:graphic>
          <a:graphicData uri="http://schemas.openxmlformats.org/drawingml/2006/table">
            <a:tbl>
              <a:tblPr/>
              <a:tblGrid>
                <a:gridCol w="1931400"/>
                <a:gridCol w="1194480"/>
                <a:gridCol w="1699920"/>
                <a:gridCol w="1414080"/>
                <a:gridCol w="2340360"/>
              </a:tblGrid>
              <a:tr h="1636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y sh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oth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ok sh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ce cream sh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38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nn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38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n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828800" y="5486400"/>
            <a:ext cx="566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want to buy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et’s go to the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2438280"/>
            <a:ext cx="129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a new 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4114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ice c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1:42:04Z</dcterms:created>
  <dc:creator/>
  <dc:description/>
  <dc:language>en-US</dc:language>
  <cp:lastModifiedBy/>
  <dcterms:modified xsi:type="dcterms:W3CDTF">2017-09-14T12:47:23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